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A82-64A3-4E32-8016-0CF15B70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F45-75E9-4727-B01F-3F452D0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D19-FB0D-4C14-B92D-6DA1B362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AF9-A275-4B2E-BB86-E026D794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F2C-CF5A-49C3-B71C-0189903D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04A-7511-4854-A4B0-4BC72A2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1A5-EA46-42E8-8E84-9F30E6B8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C78-007C-4E81-8CA5-CB610D83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497-E0F7-4883-9F32-11040C2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750-1680-42D4-BBC9-22164E3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052-4D34-49FF-8631-0687420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58C-8BC0-4E25-B652-33CF39C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79DE-01B3-4E46-98C9-3765CB7A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96360" cy="90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1237320"/>
            <a:ext cx="75186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ADEMIA DE INVESTIGACIÓN Y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ademia de investigación y ética tiene como misión ser un espacio para el trabajo académico-colegiado reflexivo para la revisión y actualización de los planes de estudio orientado a la currícula de Contaduría, Administración 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 este sentido, el presente espacio tiene como objetivo que cada uno/a de los/as profesores/as aporten reflexiones y análisis orientados a la actualización de los planes de estudio, así como de las asignaturas que lo integran y derive en un diseño de temarios analíticos de las asignaturas optativas y complement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esta manera, iniciaremos con la revisión de la asignatura Principios y Técnicas de Investigación, de acuerdo con el siguiente calendario y 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6:21:00Z</dcterms:created>
  <dc:creator>Ricardo Soto Ramírez</dc:creator>
  <dc:description/>
  <dc:language>en-US</dc:language>
  <cp:lastModifiedBy>Ricardo Soto Ramírez</cp:lastModifiedBy>
  <dcterms:modified xsi:type="dcterms:W3CDTF">2010-02-24T06:25:38Z</dcterms:modified>
  <cp:revision>1</cp:revision>
  <dc:subject/>
  <dc:title>Diapositiva 1</dc:title>
</cp:coreProperties>
</file>