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071E-3CCA-42C5-88B5-FC8D77E6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C01-23D8-4D60-B3FE-D6F32025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6A6-2AAE-4625-AB9B-9FF35F03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64DB-0AA9-44E5-9006-16D38EEA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917-C522-40CB-B6A0-9BC47B8C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A42-3BF3-4E5B-9CB3-B50549FF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647-FE62-4686-B4D5-5074F065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812E-CF20-4320-B2AA-35DFD85B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CDE-CB15-4D40-8EF4-EA7FC466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88D-ACA5-42A6-9310-D22E6D3B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755-7B57-441B-BBD1-0B598651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34B6-3BFD-4413-B65A-4BA9B595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61F0-9F8C-420E-B3F2-EEB35D1E7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596360" cy="90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1237320"/>
            <a:ext cx="75186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ADEMIA DE INVESTIGACIÓN Y 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academia de investigación y ética tiene como misión ser un espacio para el trabajo académico-colegiado reflexivo para la revisión y actualización de los planes de estudio orientado a la currícula de Contaduría, Administración e Infor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n este sentido, el presente espacio tiene como objetivo que cada uno/a de los/as profesores/as aporten reflexiones y análisis orientados a la actualización de los planes de estudio, así como de las asignaturas que lo integran y derive en un diseño de temarios analíticos de las asignaturas optativas y complementa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 esta manera, iniciaremos con la revisión de la asignatura Principios y Técnicas de Investigación, de acuerdo con el siguiente calendario y objetiv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6:21:00Z</dcterms:created>
  <dc:creator>Ricardo Soto Ramírez</dc:creator>
  <dc:description/>
  <dc:language>en-US</dc:language>
  <cp:lastModifiedBy>Ricardo Soto Ramírez</cp:lastModifiedBy>
  <dcterms:modified xsi:type="dcterms:W3CDTF">2010-02-24T06:25:38Z</dcterms:modified>
  <cp:revision>1</cp:revision>
  <dc:subject/>
  <dc:title>Diapositiva 1</dc:title>
</cp:coreProperties>
</file>