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921-A212-40BC-8085-2114FBA8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AD3-9DC2-4869-9EEC-0E9BE86F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483-1F3A-4905-95A1-3D74F0E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A74-EE5B-45D6-83D1-9E789895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FC6-9F0C-4C6C-8490-CCFAE4F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23B-5045-4025-81EA-F5FCC7C0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F1F-9623-4D3F-8792-80B35393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9D3-7FAE-4620-B15F-0A023FA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433-9AA4-4EDA-9BEC-DCA38C6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D12-971B-4074-9EE9-03AEA84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D30-9F21-4AC3-884D-BA4C1E0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949-72D1-4BF1-8108-C5DA38FB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5DE-C886-40BF-B093-7E077177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96360" cy="90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237320"/>
            <a:ext cx="75186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ADEMIA DE INVESTIGACIÓN Y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ademia de investigación y ética tiene como misión ser un espacio para el trabajo académico-colegiado reflexivo para la revisión y actualización de los planes de estudio orientado a la currícula de Contaduría, Administración 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 este sentido, el presente espacio tiene como objetivo que cada uno/a de los/as profesores/as aporten reflexiones y análisis orientados a la actualización de los planes de estudio, así como de las asignaturas que lo integran y derive en un diseño de temarios analíticos de las asignaturas optativas y complemen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esta manera, iniciaremos con la revisión de la asignatura Principios y Técnicas de Investigación, de acuerdo con el siguiente calendario y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6:21:00Z</dcterms:created>
  <dc:creator>Ricardo Soto Ramírez</dc:creator>
  <dc:description/>
  <dc:language>en-US</dc:language>
  <cp:lastModifiedBy>Ricardo Soto Ramírez</cp:lastModifiedBy>
  <dcterms:modified xsi:type="dcterms:W3CDTF">2010-02-24T06:25:38Z</dcterms:modified>
  <cp:revision>1</cp:revision>
  <dc:subject/>
  <dc:title>Diapositiva 1</dc:title>
</cp:coreProperties>
</file>