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D19-6ABD-44DE-8109-1F515E83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0D2-037F-449B-B7F9-E31A5D8C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6C4-5E23-4AAA-814A-7295415A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750-0B3E-4308-870E-EC376188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65C-7DB6-45A0-8DA7-4CA79E4B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F5B-5A9F-4683-B058-A79575AA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FD9-FA2F-44F0-896D-A1DF6ECE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CF1-26B1-441F-BD9A-DDCB5805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45F-B9C1-46CC-AA96-AFD54D18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04F-B105-48D4-83B3-38944E53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009-24F8-47CB-BDFF-DFCB2294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387A-5C3D-4524-9ABD-50A4902F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4448-D9E9-415E-8002-A8CAA673F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596360" cy="90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1237320"/>
            <a:ext cx="75186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ADEMIA DE INVESTIGACIÓN Y 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academia de investigación y ética tiene como misión ser un espacio para el trabajo académico-colegiado reflexivo para la revisión y actualización de los planes de estudio orientado a la currícula de Contaduría, Administración e Infor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n este sentido, el presente espacio tiene como objetivo que cada uno/a de los/as profesores/as aporten reflexiones y análisis orientados a la actualización de los planes de estudio, así como de las asignaturas que lo integran y derive en un diseño de temarios analíticos de las asignaturas optativas y complementa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 esta manera, iniciaremos con la revisión de la asignatura Principios y Técnicas de Investigación, de acuerdo con el siguiente calendario y obje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6:21:00Z</dcterms:created>
  <dc:creator>Ricardo Soto Ramírez</dc:creator>
  <dc:description/>
  <dc:language>en-US</dc:language>
  <cp:lastModifiedBy>Ricardo Soto Ramírez</cp:lastModifiedBy>
  <dcterms:modified xsi:type="dcterms:W3CDTF">2010-02-24T06:25:38Z</dcterms:modified>
  <cp:revision>1</cp:revision>
  <dc:subject/>
  <dc:title>Diapositiva 1</dc:title>
</cp:coreProperties>
</file>